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032-7D13-499A-BB42-3F22957F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A4D-974D-4320-AE85-FA15B6AF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A09-AD45-4024-88A7-DB373FAA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5C6-02A6-4483-B260-7F429F29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197-12CD-4FC2-B3DD-51868DAE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4B9-1C5A-44C4-B75B-DE94EA1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EC2-C7E4-44A7-AA70-879E44B9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93F-205C-414A-91CD-D5EEC7C0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177-6763-46DA-8186-C8BFF5A7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017-9992-4207-8739-A9A42950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0C0-C0D0-41E2-99ED-2DB1CE2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98E-B07B-4CEA-8EF7-A542282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E68F-E555-4CB4-8FD2-5766991F07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Eras Medium ITC"/>
              </a:rPr>
              <a:t>The Opening Ceremon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Eras Medium ITC"/>
              </a:rPr>
              <a:t>By Li-Na Vincent, Mikki South &amp; Tom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_43017275_olympic_jeremy"/>
          <p:cNvPicPr/>
          <p:nvPr/>
        </p:nvPicPr>
        <p:blipFill>
          <a:blip r:embed="rId1"/>
          <a:stretch/>
        </p:blipFill>
        <p:spPr>
          <a:xfrm>
            <a:off x="3059280" y="692280"/>
            <a:ext cx="28810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395280" y="4005360"/>
            <a:ext cx="849780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ras Medium ITC"/>
              </a:rPr>
              <a:t>90 x 70 = 6300 m</a:t>
            </a: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ras Medium ITC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÷ 2 = 35 = rad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r² = 3848.451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Area of track =10148.451m² rounded 1sf =10000m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3.5 people fit in 1m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Eras Medium ITC"/>
              </a:rPr>
              <a:t>3.5 x 10000 = 35000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Eras Medium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Eras Medium ITC"/>
              </a:rPr>
              <a:t>The answer…? Yes they can all f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59280" y="1844640"/>
            <a:ext cx="3024000" cy="18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084720" y="1844640"/>
            <a:ext cx="1800360" cy="187164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 rot="10800000">
            <a:off x="1258560" y="1844280"/>
            <a:ext cx="1800360" cy="187164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132000" y="1484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ras Medium ITC"/>
              </a:rPr>
              <a:t>9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059280" y="256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Eras Medium ITC"/>
              </a:rPr>
              <a:t>7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i"/>
          <p:cNvPicPr/>
          <p:nvPr/>
        </p:nvPicPr>
        <p:blipFill>
          <a:blip r:embed="rId1"/>
          <a:stretch/>
        </p:blipFill>
        <p:spPr>
          <a:xfrm>
            <a:off x="684360" y="4941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 flipV="1">
            <a:off x="2771640" y="2924280"/>
            <a:ext cx="79236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2771640" y="1844640"/>
            <a:ext cx="1584360" cy="2378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 flipV="1">
            <a:off x="2700360" y="3357360"/>
            <a:ext cx="417672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1:40Z</dcterms:created>
  <dc:creator>vincentl</dc:creator>
  <dc:description/>
  <dc:language>en-US</dc:language>
  <cp:lastModifiedBy> </cp:lastModifiedBy>
  <dcterms:modified xsi:type="dcterms:W3CDTF">2010-06-12T11:56:56Z</dcterms:modified>
  <cp:revision>2</cp:revision>
  <dc:subject/>
  <dc:title>The Opening Ceremony Problem</dc:title>
</cp:coreProperties>
</file>